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E121-809C-49F7-9524-510C81C47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89F7-5F4E-4FFA-B695-580C35072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10F8-E769-4800-A3C0-4775A5AA5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E4D4-B5F4-4965-A3C2-444B5BB12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4984-16EC-4403-83B3-5776F032A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7C9A-3641-4411-87BE-F38277FBB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9430-4EED-4B06-B647-E8725BC00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D2A7-DA28-4BFC-B7DA-49D5AEB44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547A-5D35-4E24-A905-CE28C43E4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0271-2045-463C-86C2-D98CB07BF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4789-2E5C-4507-AD19-9773E55A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777E-FA24-487A-9754-6D101B61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5BB5E-C876-4A69-9904-0ED1C02176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2133720" y="2336760"/>
            <a:ext cx="6350040" cy="4660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56800" y="609120"/>
            <a:ext cx="84423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rowdfund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872720" y="1218960"/>
            <a:ext cx="6621480" cy="14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700" spc="-1" strike="noStrike">
                <a:solidFill>
                  <a:srgbClr val="000000"/>
                </a:solidFill>
                <a:latin typeface="Arial"/>
              </a:rPr>
              <a:t>Jasper Zee &amp; Solveig Whittl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UWSMC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ebruary 15, 2012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ataly Dawn's First Solo Albu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-159120" y="1117440"/>
            <a:ext cx="2498760" cy="519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tube and Myspace performer looking to start her own Solo Albu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 the studio, musicians, and songs, but needed the fund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posed project on Kickstarter, solicited her Facebook and Myspace follow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ised over 5X her go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54120" y="5486400"/>
            <a:ext cx="9337680" cy="101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unders received album downloads, signed copies, t-shirts, props from her music videos and much more!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2438280" y="1117440"/>
            <a:ext cx="7620120" cy="45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5080" y="293400"/>
            <a:ext cx="96552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Elevation Dock: The best Dock for Iphon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levation Lab wanted to design an Iphone Dock that was better then the ones out in the market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cus on better docking, ease of use, and super suaveness.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$75,000 Pledge goal, received over 1,464,706!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unders received an Elevation dock in special finish colors, or multiple depending on amount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5181480" y="2540160"/>
            <a:ext cx="4751640" cy="39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52120" y="3052440"/>
            <a:ext cx="8442360" cy="14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Kickstarter Elevation Dock </a:t>
            </a:r>
            <a:r>
              <a:rPr b="0" lang="en-US" sz="4800" spc="-1" strike="noStrike" u="sng">
                <a:solidFill>
                  <a:srgbClr val="0000ff"/>
                </a:solidFill>
                <a:uFillTx/>
                <a:latin typeface="Arial"/>
              </a:rPr>
              <a:t>Video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and De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1219320" y="101520"/>
            <a:ext cx="8346960" cy="62611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1081080" y="6400800"/>
            <a:ext cx="83948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http://www.kickstarter.com/profile/proposals/new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http://www.kickstarter.com/projects/hop/elevation-dock-the-best-dock-for-iphon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"Fast Growing Retail Business"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304920" y="1117440"/>
            <a:ext cx="6837120" cy="51944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5224320" y="2030400"/>
            <a:ext cx="4489560" cy="50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unding Circle is a UK clearinghouse for semi-anonymous lenders and borrowers (bank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marily for expanding existing small business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Variable loan rates/term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verage return 8.3%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unding Circle does the credit check, rates risk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ender amounts small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$40 million in transactions to da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52240" y="355320"/>
            <a:ext cx="905508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on Crowdfunding Mistak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52240" y="1828800"/>
            <a:ext cx="905508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sking for Too Much… or Too Littl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 Bad Promo Video: too long, not clear on the benefits, no humor, no excitemen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o Clear Itemized Budge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usy or Overpriced Perk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ailing to Promote Your Project to Your Social Media Network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ailing to Inspire- No Good Story or Hook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Giving Up Too Early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52240" y="355320"/>
            <a:ext cx="905508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Three Types of Crowdfunding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552240" y="1828800"/>
            <a:ext cx="905508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onations, Philanthropy and Sponsorship where there is no expected financial retur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Kickstarter, IndieGoGo, RocketHub, Faithfunder, CharitySub, ChipIn, Catchafi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ending/Borrowing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KIVA, RateSetter, Funding Circ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vestment in exchange for equity, profit or revenue sharing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founder, AppBackr, PeerBackers, Quirky, GrowVC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52240" y="355320"/>
            <a:ext cx="905508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552240" y="1828800"/>
            <a:ext cx="925164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http://www.crowdsourcing.org/editorial/the-crowd-as-investor-a-conversation-with-grow-vc-co-founder-jouko-ahvenainen/10637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http://crowdfundinghelp.com/getting-started/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http://www.kickstarter.com/projects/hop/elevation-dock-the-best-dock-for-iphone 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https://www.fundingcircle.com/loans/3801/auctio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Alex McCarthy</cp:lastModifiedBy>
  <dcterms:modified xsi:type="dcterms:W3CDTF">2012-02-15T00:28:16Z</dcterms:modified>
  <cp:revision>2</cp:revision>
  <dc:subject/>
  <dc:title>PowerPoint Presentation</dc:title>
</cp:coreProperties>
</file>